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20C33-DFD2-4EDB-B5F6-59DE2D45B0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2CF42-388F-487E-8C97-F64DB4C988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7BC1E-F24B-40AA-A71F-ABA4134878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E9976-329F-49C8-AF98-86B8AA40B4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D9861-2BBD-45CE-B78D-C19B5CCA27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26D53-9EF6-4D96-A7A8-F6256DB17F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8574B-CD2D-4954-BA10-51F6CE79E0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71C13-CCA8-40D4-B5C5-F99DEF5ED5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73C62-6404-4E34-B708-E1B1AC726C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EECEA-3BBB-4CA2-9777-136597504D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4871A-41B0-4725-9F28-FACD2C8549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7B532-04F1-463C-9423-4E21F6A6B5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6C8CE-110B-47FA-9DFD-145C7C1D8A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C6AA4-BD17-4611-AC68-B7E40D14FF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72256-FDAC-4542-AB36-8DC7401DFB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BA7D1-4C2A-4DED-A058-D9EFDCF0C3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FC1CC-E3DC-490D-92E7-4F1CFED85D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EF054-BFE3-4359-95CB-D90EC2F847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64FEA-53EF-4328-A87E-C2C2D7B080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4603A-4DF1-44DE-AD89-A10D14F64D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6BB05-687A-4023-B434-9893B50DE0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F0419-9191-481D-9BE8-ED7981372E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DE640-1987-4A33-BDF5-8DB7FBF267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C1EB4-339C-47EC-92A7-5300DE89B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380880"/>
            <a:ext cx="8229600" cy="609840"/>
          </a:xfrm>
          <a:prstGeom prst="pie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ìnpe_simbolo.jpg" descr="ìnpe_simbolo.jpg"/>
          <p:cNvPicPr/>
          <p:nvPr/>
        </p:nvPicPr>
        <p:blipFill>
          <a:blip r:embed="rId2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0560" indent="-33336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71560" indent="-399960"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47760" indent="-318960">
              <a:spcBef>
                <a:spcPts val="601"/>
              </a:spcBef>
              <a:buClr>
                <a:srgbClr val="00007d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477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477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451B-1B48-4E99-BF62-74D71A5309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8229600" cy="609840"/>
          </a:xfrm>
          <a:prstGeom prst="pie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ìnpe_simbolo.jpg" descr="ìnpe_simbolo.jpg"/>
          <p:cNvPicPr/>
          <p:nvPr/>
        </p:nvPicPr>
        <p:blipFill>
          <a:blip r:embed="rId2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1066680"/>
            <a:ext cx="2867040" cy="3156120"/>
            <a:chOff x="0" y="1066680"/>
            <a:chExt cx="2867040" cy="3156120"/>
          </a:xfrm>
        </p:grpSpPr>
        <p:sp>
          <p:nvSpPr>
            <p:cNvPr id="46" name=""/>
            <p:cNvSpPr/>
            <p:nvPr/>
          </p:nvSpPr>
          <p:spPr>
            <a:xfrm>
              <a:off x="573120" y="3582000"/>
              <a:ext cx="576000" cy="6408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16120" y="1690200"/>
              <a:ext cx="574560" cy="6426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81320" y="1066680"/>
              <a:ext cx="585720" cy="634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141560" y="3582000"/>
              <a:ext cx="583920" cy="64080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281320" y="1690200"/>
              <a:ext cx="585720" cy="6426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41560" y="2323440"/>
              <a:ext cx="583920" cy="6328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2323440"/>
              <a:ext cx="582480" cy="6328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2323440"/>
              <a:ext cx="574560" cy="6328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3120" y="2946960"/>
              <a:ext cx="576000" cy="644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41560" y="2946960"/>
              <a:ext cx="583920" cy="6440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" name="logocomp.png" descr="logocomp"/>
          <p:cNvPicPr/>
          <p:nvPr/>
        </p:nvPicPr>
        <p:blipFill>
          <a:blip r:embed="rId3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378640" y="6397200"/>
            <a:ext cx="306360" cy="30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1B4A-0912-48F7-A73C-3947A3AA837E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0560" indent="-33336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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71560" indent="-399960"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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47760" indent="-318960">
              <a:spcBef>
                <a:spcPts val="601"/>
              </a:spcBef>
              <a:buClr>
                <a:srgbClr val="00007d"/>
              </a:buClr>
              <a:buFont typeface="Wingdings" charset="2"/>
              <a:buChar char="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477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477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System Dynamics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dro Ribeiro de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ão José dos Campos, 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asted-image.png" descr=""/>
          <p:cNvPicPr/>
          <p:nvPr/>
        </p:nvPicPr>
        <p:blipFill>
          <a:blip r:embed="rId1"/>
          <a:stretch/>
        </p:blipFill>
        <p:spPr>
          <a:xfrm>
            <a:off x="182520" y="919080"/>
            <a:ext cx="8518680" cy="59832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10720" y="33300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Water in the tub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6" name=""/>
          <p:cNvSpPr/>
          <p:nvPr/>
        </p:nvSpPr>
        <p:spPr>
          <a:xfrm>
            <a:off x="1787400" y="3348000"/>
            <a:ext cx="698508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marL="293760" indent="-293760">
              <a:spcBef>
                <a:spcPts val="400"/>
              </a:spcBef>
              <a:buClr>
                <a:srgbClr val="00007d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itial stock: water in tub = 40 gall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spcBef>
                <a:spcPts val="400"/>
              </a:spcBef>
              <a:buClr>
                <a:srgbClr val="00007d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ter in tub(t) = water in tub(t – dt) – outflow x d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spcBef>
                <a:spcPts val="400"/>
              </a:spcBef>
              <a:buClr>
                <a:srgbClr val="00007d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 = minu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spcBef>
                <a:spcPts val="400"/>
              </a:spcBef>
              <a:buClr>
                <a:srgbClr val="00007d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t = 1 minu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spcBef>
                <a:spcPts val="400"/>
              </a:spcBef>
              <a:buClr>
                <a:srgbClr val="00007d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untime = 8 minu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spcBef>
                <a:spcPts val="400"/>
              </a:spcBef>
              <a:buClr>
                <a:srgbClr val="00007d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flow = 5 gal/m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asted-image.png" descr=""/>
          <p:cNvPicPr/>
          <p:nvPr/>
        </p:nvPicPr>
        <p:blipFill>
          <a:blip r:embed="rId1"/>
          <a:stretch/>
        </p:blipFill>
        <p:spPr>
          <a:xfrm>
            <a:off x="182520" y="919080"/>
            <a:ext cx="8518680" cy="59832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10720" y="33300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Water in the tub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87040" y="3347640"/>
            <a:ext cx="6985080" cy="2600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93760" indent="-293760">
              <a:spcBef>
                <a:spcPts val="400"/>
              </a:spcBef>
              <a:buClr>
                <a:srgbClr val="00007d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itial stock: water in tub = 40 gall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spcBef>
                <a:spcPts val="400"/>
              </a:spcBef>
              <a:buClr>
                <a:srgbClr val="00007d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ter in tub(t) = water in tub(t – dt) – outflow x d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spcBef>
                <a:spcPts val="400"/>
              </a:spcBef>
              <a:buClr>
                <a:srgbClr val="00007d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 = minu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spcBef>
                <a:spcPts val="400"/>
              </a:spcBef>
              <a:buClr>
                <a:srgbClr val="00007d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t = 1 minu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spcBef>
                <a:spcPts val="400"/>
              </a:spcBef>
              <a:buClr>
                <a:srgbClr val="00007d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untime = 8 minu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spcBef>
                <a:spcPts val="400"/>
              </a:spcBef>
              <a:buClr>
                <a:srgbClr val="00007d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flow = 5 gal/m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spcBef>
                <a:spcPts val="400"/>
              </a:spcBef>
              <a:buClr>
                <a:srgbClr val="00007d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flow = 40 gal every 10 m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06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onclusion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988640"/>
            <a:ext cx="8534520" cy="42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ways to increase sto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cks act as delays or buff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cks allow inflows and outflows to be decoup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How to model Natural-Society systems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522360" y="4727520"/>
            <a:ext cx="8902800" cy="1968480"/>
          </a:xfrm>
          <a:prstGeom prst="rect">
            <a:avLst/>
          </a:prstGeom>
          <a:noFill/>
          <a:ln w="9360">
            <a:solidFill>
              <a:srgbClr val="cccc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73120" y="2973240"/>
            <a:ext cx="2317320" cy="1606680"/>
            <a:chOff x="573120" y="2973240"/>
            <a:chExt cx="2317320" cy="1606680"/>
          </a:xfrm>
        </p:grpSpPr>
        <p:sp>
          <p:nvSpPr>
            <p:cNvPr id="101" name=""/>
            <p:cNvSpPr/>
            <p:nvPr/>
          </p:nvSpPr>
          <p:spPr>
            <a:xfrm flipH="1">
              <a:off x="573120" y="2973240"/>
              <a:ext cx="2253600" cy="1606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2470320" y="4065480"/>
              <a:ext cx="375480" cy="26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639880" y="4157280"/>
              <a:ext cx="250200" cy="17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702880" y="4201920"/>
              <a:ext cx="124920" cy="8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646200" y="3059640"/>
              <a:ext cx="2067480" cy="136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6" name="PE01561_.pdf" descr="PE01561_"/>
          <p:cNvPicPr/>
          <p:nvPr/>
        </p:nvPicPr>
        <p:blipFill>
          <a:blip r:embed="rId1"/>
          <a:stretch/>
        </p:blipFill>
        <p:spPr>
          <a:xfrm>
            <a:off x="2585880" y="3975120"/>
            <a:ext cx="3529080" cy="227340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5332320" y="4079880"/>
            <a:ext cx="3702240" cy="2227320"/>
            <a:chOff x="5332320" y="4079880"/>
            <a:chExt cx="3702240" cy="2227320"/>
          </a:xfrm>
        </p:grpSpPr>
        <p:sp>
          <p:nvSpPr>
            <p:cNvPr id="108" name=""/>
            <p:cNvSpPr/>
            <p:nvPr/>
          </p:nvSpPr>
          <p:spPr>
            <a:xfrm>
              <a:off x="6293880" y="4396320"/>
              <a:ext cx="2740680" cy="1910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01920" y="4417560"/>
              <a:ext cx="456840" cy="31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07000" y="4216320"/>
              <a:ext cx="304560" cy="21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32320" y="4079880"/>
              <a:ext cx="152280" cy="105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30320" y="4499280"/>
              <a:ext cx="2514240" cy="1626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3" name="npo000008.png" descr="npo000008"/>
          <p:cNvPicPr/>
          <p:nvPr/>
        </p:nvPicPr>
        <p:blipFill>
          <a:blip r:embed="rId2"/>
          <a:stretch/>
        </p:blipFill>
        <p:spPr>
          <a:xfrm>
            <a:off x="5810400" y="3338640"/>
            <a:ext cx="1110960" cy="357120"/>
          </a:xfrm>
          <a:prstGeom prst="rect">
            <a:avLst/>
          </a:prstGeom>
          <a:ln w="0">
            <a:noFill/>
          </a:ln>
        </p:spPr>
      </p:pic>
      <p:pic>
        <p:nvPicPr>
          <p:cNvPr id="114" name="npo00000a.png" descr="npo00000a"/>
          <p:cNvPicPr/>
          <p:nvPr/>
        </p:nvPicPr>
        <p:blipFill>
          <a:blip r:embed="rId3"/>
          <a:stretch/>
        </p:blipFill>
        <p:spPr>
          <a:xfrm>
            <a:off x="5970600" y="3821040"/>
            <a:ext cx="1023840" cy="365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452640" y="3557520"/>
            <a:ext cx="12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(... ? ) then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591080" y="3164040"/>
            <a:ext cx="3689280" cy="1047600"/>
            <a:chOff x="4591080" y="3164040"/>
            <a:chExt cx="3689280" cy="1047600"/>
          </a:xfrm>
        </p:grpSpPr>
        <p:sp>
          <p:nvSpPr>
            <p:cNvPr id="117" name=""/>
            <p:cNvSpPr/>
            <p:nvPr/>
          </p:nvSpPr>
          <p:spPr>
            <a:xfrm>
              <a:off x="5404320" y="3164040"/>
              <a:ext cx="2876040" cy="1047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80600" y="3524760"/>
              <a:ext cx="479160" cy="174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06640" y="3537360"/>
              <a:ext cx="31932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91080" y="3557160"/>
              <a:ext cx="159480" cy="57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47240" y="3220560"/>
              <a:ext cx="2638800" cy="891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2" name="npo00000d.png" descr="npo00000d"/>
          <p:cNvPicPr/>
          <p:nvPr/>
        </p:nvPicPr>
        <p:blipFill>
          <a:blip r:embed="rId4"/>
          <a:stretch/>
        </p:blipFill>
        <p:spPr>
          <a:xfrm>
            <a:off x="7134120" y="4627440"/>
            <a:ext cx="1435320" cy="1173240"/>
          </a:xfrm>
          <a:prstGeom prst="rect">
            <a:avLst/>
          </a:prstGeom>
          <a:ln w="0">
            <a:noFill/>
          </a:ln>
        </p:spPr>
      </p:pic>
      <p:pic>
        <p:nvPicPr>
          <p:cNvPr id="123" name="BD04972_.pdf" descr="BD04972_"/>
          <p:cNvPicPr/>
          <p:nvPr/>
        </p:nvPicPr>
        <p:blipFill>
          <a:blip r:embed="rId5"/>
          <a:stretch/>
        </p:blipFill>
        <p:spPr>
          <a:xfrm>
            <a:off x="838080" y="3198960"/>
            <a:ext cx="1044720" cy="782640"/>
          </a:xfrm>
          <a:prstGeom prst="rect">
            <a:avLst/>
          </a:prstGeom>
          <a:ln w="0">
            <a:noFill/>
          </a:ln>
        </p:spPr>
      </p:pic>
      <p:pic>
        <p:nvPicPr>
          <p:cNvPr id="124" name="BD05545_.pdf" descr="BD05545_"/>
          <p:cNvPicPr/>
          <p:nvPr/>
        </p:nvPicPr>
        <p:blipFill>
          <a:blip r:embed="rId6"/>
          <a:stretch/>
        </p:blipFill>
        <p:spPr>
          <a:xfrm>
            <a:off x="1673280" y="3581280"/>
            <a:ext cx="822240" cy="80640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2914560" y="2706840"/>
            <a:ext cx="2279880" cy="1009440"/>
            <a:chOff x="2914560" y="2706840"/>
            <a:chExt cx="2279880" cy="1009440"/>
          </a:xfrm>
        </p:grpSpPr>
        <p:sp>
          <p:nvSpPr>
            <p:cNvPr id="126" name=""/>
            <p:cNvSpPr/>
            <p:nvPr/>
          </p:nvSpPr>
          <p:spPr>
            <a:xfrm>
              <a:off x="2914560" y="2706840"/>
              <a:ext cx="2279880" cy="1009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85280" y="3516480"/>
              <a:ext cx="379800" cy="16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44400" y="3489840"/>
              <a:ext cx="253080" cy="111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5760" y="3507480"/>
              <a:ext cx="126360" cy="5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27960" y="2761200"/>
              <a:ext cx="2091960" cy="859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1" name="npo00000f.jpg" descr="npo00000f"/>
          <p:cNvPicPr/>
          <p:nvPr/>
        </p:nvPicPr>
        <p:blipFill>
          <a:blip r:embed="rId7"/>
          <a:stretch/>
        </p:blipFill>
        <p:spPr>
          <a:xfrm>
            <a:off x="3201840" y="2925720"/>
            <a:ext cx="825480" cy="619200"/>
          </a:xfrm>
          <a:prstGeom prst="rect">
            <a:avLst/>
          </a:prstGeom>
          <a:ln w="0">
            <a:noFill/>
          </a:ln>
        </p:spPr>
      </p:pic>
      <p:pic>
        <p:nvPicPr>
          <p:cNvPr id="132" name="npo000011.jpg" descr="npo000011"/>
          <p:cNvPicPr/>
          <p:nvPr/>
        </p:nvPicPr>
        <p:blipFill>
          <a:blip r:embed="rId8"/>
          <a:stretch/>
        </p:blipFill>
        <p:spPr>
          <a:xfrm>
            <a:off x="4205160" y="2793960"/>
            <a:ext cx="528840" cy="739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132000" y="6308640"/>
            <a:ext cx="2446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umnst777 BT"/>
                <a:ea typeface="Humnst777 BT"/>
              </a:rPr>
              <a:t>Desforesta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1849680" y="1341360"/>
            <a:ext cx="5741640" cy="945000"/>
          </a:xfrm>
          <a:prstGeom prst="rect">
            <a:avLst/>
          </a:prstGeom>
          <a:solidFill>
            <a:srgbClr val="ebeb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e"/>
                </a:solidFill>
                <a:latin typeface="Calibri"/>
                <a:ea typeface="Calibri"/>
              </a:rPr>
              <a:t>Connect expertise from different fiel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e"/>
                </a:solidFill>
                <a:latin typeface="Calibri"/>
                <a:ea typeface="Calibri"/>
              </a:rPr>
              <a:t>Make the different conceptions explic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8137440" cy="172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Calibri"/>
              </a:rPr>
              <a:t>“</a:t>
            </a:r>
            <a:r>
              <a:rPr b="0" lang="en-US" sz="1700" spc="-1" strike="noStrike">
                <a:solidFill>
                  <a:srgbClr val="ff3300"/>
                </a:solidFill>
                <a:latin typeface="Calibri"/>
              </a:rPr>
              <a:t>[The] advantage of a mathematical statement is that it is so definite that it might be definitely wrong…..Some verbal statements have not this merit; they are so vague that they could hardly be wrong, and are correspondingly useless.”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ewis Fry Richardson (1881-1953) – first to apply mathematical methods to numerical weather predic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Mode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37" name="image.png" descr=""/>
          <p:cNvPicPr/>
          <p:nvPr/>
        </p:nvPicPr>
        <p:blipFill>
          <a:blip r:embed="rId1"/>
          <a:stretch/>
        </p:blipFill>
        <p:spPr>
          <a:xfrm>
            <a:off x="755640" y="3705120"/>
            <a:ext cx="2575080" cy="3132360"/>
          </a:xfrm>
          <a:prstGeom prst="rect">
            <a:avLst/>
          </a:prstGeom>
          <a:ln w="0">
            <a:noFill/>
          </a:ln>
        </p:spPr>
      </p:pic>
      <p:pic>
        <p:nvPicPr>
          <p:cNvPr id="138" name="image.png" descr=""/>
          <p:cNvPicPr/>
          <p:nvPr/>
        </p:nvPicPr>
        <p:blipFill>
          <a:blip r:embed="rId2"/>
          <a:stretch/>
        </p:blipFill>
        <p:spPr>
          <a:xfrm>
            <a:off x="4284720" y="3789360"/>
            <a:ext cx="3527280" cy="290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82720" y="407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A system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1989000"/>
            <a:ext cx="8534520" cy="26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228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ystem is a group of different components that interact with each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you identify part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 the parts affect each other? How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42" name="image.png" descr=""/>
          <p:cNvPicPr/>
          <p:nvPr/>
        </p:nvPicPr>
        <p:blipFill>
          <a:blip r:embed="rId1"/>
          <a:stretch/>
        </p:blipFill>
        <p:spPr>
          <a:xfrm>
            <a:off x="-33480" y="0"/>
            <a:ext cx="9198000" cy="689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44" name="image.png" descr=""/>
          <p:cNvPicPr/>
          <p:nvPr/>
        </p:nvPicPr>
        <p:blipFill>
          <a:blip r:embed="rId1"/>
          <a:stretch/>
        </p:blipFill>
        <p:spPr>
          <a:xfrm>
            <a:off x="0" y="-27000"/>
            <a:ext cx="9159840" cy="6218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6165720"/>
            <a:ext cx="9144000" cy="79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image.png" descr=""/>
          <p:cNvPicPr/>
          <p:nvPr/>
        </p:nvPicPr>
        <p:blipFill>
          <a:blip r:embed="rId1"/>
          <a:stretch/>
        </p:blipFill>
        <p:spPr>
          <a:xfrm>
            <a:off x="0" y="1184400"/>
            <a:ext cx="9410760" cy="57006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alibri"/>
              </a:rPr>
              <a:t>Earth as a system</a:t>
            </a:r>
            <a:endParaRPr b="1" lang="en-US" sz="36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10720" y="38052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System Dynamic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3360" y="1955880"/>
            <a:ext cx="8229600" cy="2193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measurable part of reality can be mode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represented a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tock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lo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buClr>
                <a:srgbClr val="9999cc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ock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represent energy, matter, or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buClr>
                <a:srgbClr val="9999cc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low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and transport stoc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10720" y="38052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Systems Theory: stocks and flow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6388200"/>
            <a:ext cx="2700360" cy="396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f"/>
                </a:solidFill>
                <a:latin typeface="Calibri"/>
              </a:rPr>
              <a:t>source: Meadows,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image.png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8245440" cy="1800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476360" y="4508640"/>
            <a:ext cx="5472000" cy="640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f"/>
                </a:solidFill>
                <a:latin typeface="Calibri"/>
              </a:rPr>
              <a:t>Stocks: measurable el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f"/>
                </a:solidFill>
                <a:latin typeface="Calibri"/>
              </a:rPr>
              <a:t>Flows: changes in stocks over tim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